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4F8-12E8-405A-A4D0-7068D7DC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63E-AF9C-4E0F-99FE-11CF7ADC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5BA-5FA5-4C9F-862B-557BECC8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7B6-E773-4507-B59C-F7122626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E537-EDE3-483C-B1A1-CB5DB32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172-5CE8-4E88-818A-757D2904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4699-5287-49F5-9797-3A7B4E4A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BD31-7155-475D-AE40-86517568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19F-CEA3-4953-90AC-6F3B9D8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2BB5-98C2-4CD9-A854-D2C7C41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3937-3BE7-43E6-8EB7-492BED5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4B6-5E0B-4C1F-87C1-F244376C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42BE-CF55-4A88-99C4-4F0599E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AF6-93EB-4AE4-B0E3-8D7FF23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AD06-487A-4203-A163-1AC38251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246D-16E2-4E0F-BD82-7F7B31FA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8246-C741-4959-BC71-4B0F744F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C4F-02BD-4252-BF9D-8C80088F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D64-1EB2-4288-8DF0-ABA345B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6F9-302C-4CE3-A4AF-5912F58C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C1D-2558-4047-A0DE-D5826C0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903-54F5-4E44-80D3-04DDCD8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B60-BB04-4850-A4EA-50359CD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216-C275-4336-9647-A26E8A45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E92-080C-4E75-A834-2CDA2B12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CB45-201F-4E32-9D45-C89502535251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Branches Of The    Governmen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r. Quarles 3-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The Three Branches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xecuti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gislati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udic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r?t=a&amp;d=us&amp;s=k&amp;c=akdi&amp;ti=1&amp;ai=30752&amp;l=dir&amp;o=0&amp;sv=0a5c4242&amp;ip=a8b8dc04&amp;u=http%3A%2F%2Fwww"/>
          <p:cNvPicPr/>
          <p:nvPr/>
        </p:nvPicPr>
        <p:blipFill>
          <a:blip r:embed="rId1"/>
          <a:stretch/>
        </p:blipFill>
        <p:spPr>
          <a:xfrm>
            <a:off x="4952880" y="2362320"/>
            <a:ext cx="3571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Executive Branch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e of the President and Vice Presi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executive.jpg"/>
          <p:cNvPicPr/>
          <p:nvPr/>
        </p:nvPicPr>
        <p:blipFill>
          <a:blip r:embed="rId1"/>
          <a:stretch/>
        </p:blipFill>
        <p:spPr>
          <a:xfrm>
            <a:off x="5105520" y="2666880"/>
            <a:ext cx="3835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Legislative Branch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gress and the House of Represent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sses and makes the law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3200400" y="4114800"/>
            <a:ext cx="30481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Judicial Branch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rprets the law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udges (make decision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preme Cou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gavel.bmp"/>
          <p:cNvPicPr/>
          <p:nvPr/>
        </p:nvPicPr>
        <p:blipFill>
          <a:blip r:embed="rId1"/>
          <a:stretch/>
        </p:blipFill>
        <p:spPr>
          <a:xfrm>
            <a:off x="5410080" y="3733920"/>
            <a:ext cx="32432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Democracy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get to vo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ain freedoms, like religious freedom, freedom of speech, right to a fair t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eagle.bmp"/>
          <p:cNvPicPr/>
          <p:nvPr/>
        </p:nvPicPr>
        <p:blipFill>
          <a:blip r:embed="rId1"/>
          <a:srcRect l="19034" t="0" r="0" b="8618"/>
          <a:stretch/>
        </p:blipFill>
        <p:spPr>
          <a:xfrm>
            <a:off x="3505320" y="3733920"/>
            <a:ext cx="3429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Types of Democracy</a:t>
            </a:r>
            <a:endParaRPr b="0" lang="en-US" sz="5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ve (Republ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lag.bmp"/>
          <p:cNvPicPr/>
          <p:nvPr/>
        </p:nvPicPr>
        <p:blipFill>
          <a:blip r:embed="rId1"/>
          <a:stretch/>
        </p:blipFill>
        <p:spPr>
          <a:xfrm>
            <a:off x="1295280" y="3809880"/>
            <a:ext cx="3000600" cy="252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612px-United_States_one_dollar_coin,_reverse.bmp"/>
          <p:cNvPicPr/>
          <p:nvPr/>
        </p:nvPicPr>
        <p:blipFill>
          <a:blip r:embed="rId2"/>
          <a:stretch/>
        </p:blipFill>
        <p:spPr>
          <a:xfrm>
            <a:off x="5181480" y="3429000"/>
            <a:ext cx="3067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54:11Z</dcterms:created>
  <dc:creator>60970</dc:creator>
  <dc:description/>
  <dc:language>en-US</dc:language>
  <cp:lastModifiedBy>Phil Marty</cp:lastModifiedBy>
  <dcterms:modified xsi:type="dcterms:W3CDTF">2009-10-15T16:14:58Z</dcterms:modified>
  <cp:revision>10</cp:revision>
  <dc:subject/>
  <dc:title>The Three Branches Of The    Government</dc:title>
</cp:coreProperties>
</file>